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4FB7-DA12-4BA4-A0D1-EF26CA18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BF5B-642D-453B-A561-8038A021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7B57-95AE-462E-8674-4A381F6E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AD40-DB9A-4969-9192-6FC4E0E03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90DD-0242-4241-AE44-077099FA0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505D-D29D-4837-A87C-11AC84D5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1EBD-7AE1-46B9-94C7-4201C7A6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AC34-44DC-446D-B907-6BC3D143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BAAF-5843-4DC7-9468-430DF85A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2E4E-35C4-403F-A543-E5C4E557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543B-27D2-42C4-B30C-86AFD1C2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0F52-5971-418E-B89B-46B3DA5E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28A9-4505-4B7F-81ED-028BA7E4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3F6A-478A-4974-8AED-4A7B629D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4041-F795-496D-874A-BCE71A45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743D-A05F-4B19-9CAE-DA7041AD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5E34-17F1-462D-A592-B4A0AC416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96C9-55E8-4150-900C-94EB6A14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314F-F40D-46D0-8052-3A5A8606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E2CE-1C59-4061-9452-0997CAAB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5AB7-6127-4285-9E33-E3ED170A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6210-C970-4F8C-BB3B-FD092FCF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3650-A2E8-4A5E-B95C-F4C7D586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A386-D004-48A0-9137-A55CDAE4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Ligh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Ligh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86E3-6759-4B43-A860-AE1FDB088124}" type="slidenum">
              <a:rPr b="0" lang="en-US" sz="1400" spc="-1" strike="noStrike">
                <a:solidFill>
                  <a:srgbClr val="000000"/>
                </a:solidFill>
                <a:latin typeface="Copperplate Gothic Ligh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95480" y="1143000"/>
            <a:ext cx="5562720" cy="2286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Ligh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Ligh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5DD0-E605-41CD-BC7C-7C64BF56B85D}" type="slidenum">
              <a:rPr b="0" lang="en-US" sz="1400" spc="-1" strike="noStrike">
                <a:solidFill>
                  <a:srgbClr val="000000"/>
                </a:solidFill>
                <a:latin typeface="Copperplate Gothic Ligh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95480" y="1143000"/>
            <a:ext cx="5562720" cy="2286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e29e4"/>
                </a:solidFill>
                <a:latin typeface="Arial Black"/>
              </a:rPr>
              <a:t>Tension in the Colonies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e29e4"/>
                </a:solidFill>
                <a:latin typeface="Arial Black"/>
              </a:rPr>
              <a:t>Increased Royal Control</a:t>
            </a:r>
            <a:r>
              <a:rPr b="1" lang="en-US" sz="4400" spc="-1" strike="noStrike">
                <a:solidFill>
                  <a:srgbClr val="3e29e4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e29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e4"/>
                </a:solidFill>
                <a:latin typeface="Arial Black"/>
              </a:rPr>
              <a:t>Proclamation of 17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e29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29e4"/>
                </a:solidFill>
                <a:latin typeface="Arial Black"/>
              </a:rPr>
              <a:t>Colonists could not settle west of the Appalachian mou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e29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29e4"/>
                </a:solidFill>
                <a:latin typeface="Arial Black"/>
              </a:rPr>
              <a:t>Limits colonial expa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362320" y="4114800"/>
            <a:ext cx="426708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e29e4"/>
                </a:solidFill>
                <a:latin typeface="Arial Black"/>
              </a:rPr>
              <a:t>New Taxes and Regulations</a:t>
            </a: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e29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29e4"/>
                </a:solidFill>
                <a:latin typeface="Arial Black"/>
              </a:rPr>
              <a:t>Sugar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e29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e4"/>
                </a:solidFill>
                <a:latin typeface="Arial Black"/>
              </a:rPr>
              <a:t>Increased taxes on sugar and mo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e29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29e4"/>
                </a:solidFill>
                <a:latin typeface="Arial Black"/>
              </a:rPr>
              <a:t>Stamp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e29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e4"/>
                </a:solidFill>
                <a:latin typeface="Arial Black"/>
              </a:rPr>
              <a:t>New taxes on st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e29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e4"/>
                </a:solidFill>
                <a:latin typeface="Arial Black"/>
              </a:rPr>
              <a:t>Requires almost all printed material to have st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e29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29e4"/>
                </a:solidFill>
                <a:latin typeface="Arial Black"/>
              </a:rPr>
              <a:t>Tea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e29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e4"/>
                </a:solidFill>
                <a:latin typeface="Arial Black"/>
              </a:rPr>
              <a:t>Increased tea tax and cuts out colonial involvement in tea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e29e4"/>
                </a:solidFill>
                <a:latin typeface="Arial Black"/>
              </a:rPr>
              <a:t>British Control</a:t>
            </a: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e29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29e4"/>
                </a:solidFill>
                <a:latin typeface="Arial Black"/>
              </a:rPr>
              <a:t>Quartering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e29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29e4"/>
                </a:solidFill>
                <a:latin typeface="Arial Black"/>
              </a:rPr>
              <a:t>Requires colonists to house British soldiers in barracks, homes, or tav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e29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29e4"/>
                </a:solidFill>
                <a:latin typeface="Arial Black"/>
              </a:rPr>
              <a:t>British could seize imported goods without war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e29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29e4"/>
                </a:solidFill>
                <a:latin typeface="Arial Black"/>
              </a:rPr>
              <a:t>Suspected smugglers were arrested and guilty until proven inno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e29e4"/>
                </a:solidFill>
                <a:latin typeface="Arial Black"/>
              </a:rPr>
              <a:t>Colonial Uprisings</a:t>
            </a: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e29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e4"/>
                </a:solidFill>
                <a:latin typeface="Arial Black"/>
              </a:rPr>
              <a:t>Boston Massac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e29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29e4"/>
                </a:solidFill>
                <a:latin typeface="Arial Black"/>
              </a:rPr>
              <a:t>British soldiers shoot at colonials rioting in the str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e29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29e4"/>
                </a:solidFill>
                <a:latin typeface="Arial Black"/>
              </a:rPr>
              <a:t>Boston Tea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e29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29e4"/>
                </a:solidFill>
                <a:latin typeface="Arial Black"/>
              </a:rPr>
              <a:t>Members of Sons of Liberty board British ships at night and throw 342 chests of tea over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400800" y="380880"/>
            <a:ext cx="25909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2:05:04Z</dcterms:created>
  <dc:creator>Dave Moffa</dc:creator>
  <dc:description/>
  <dc:language>en-US</dc:language>
  <cp:lastModifiedBy>Dave Moffa</cp:lastModifiedBy>
  <cp:lastPrinted>1904-01-01T00:00:00Z</cp:lastPrinted>
  <dcterms:modified xsi:type="dcterms:W3CDTF">2010-11-10T02:26:01Z</dcterms:modified>
  <cp:revision>12</cp:revision>
  <dc:subject/>
  <dc:title>Tension in the Colonies</dc:title>
</cp:coreProperties>
</file>